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28D-7DCF-4B81-BA58-6CE2595B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BDC-7DB6-4E8F-82FF-C98AD3B9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90F-4411-4EA0-A4D1-2CFC97E1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E7A5-2FAA-46FC-ABF3-B4BDCEAA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728F-B2C5-4FE2-9971-EAFFDEBF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F4F7-2271-4A8F-BF58-42154F9D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4717-0DDD-4148-852B-24D9D3EB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25AA-44A6-4FE4-8E81-AB47E8CD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345D-4945-4022-BCB5-2E75C8E3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F3EB-AAA5-42AD-BAEE-AF484245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C20D-46B7-4B91-BE8B-9BD63965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7C1-496B-4FCC-A058-5BA3A987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6F41-E0CE-4B22-B42C-F954CA4E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83CB-ACF3-410F-8C04-D7E7DFAB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9F0C-48B3-4A60-B1D3-F08C2F24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9030-96BE-4096-85C9-27018EE9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F725-1B46-4ABD-B22E-A49BDC1E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E78-80B8-4E86-ABB1-F671A1DA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7D7-C04B-4304-B0D7-538C345D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F75-F501-4959-9ABF-888F61CA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E89-D026-47DB-B2B4-CE776C47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3A89-3374-4164-BD29-9999D9DD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EF4-4F4F-46AA-8019-BC9761A2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723-3EC5-49DE-BC28-298BF405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8C45-1986-4849-90B3-A5B85A0CE5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C32D-BD49-4E45-8F15-188A294604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pplying for a Job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Picking Up the Application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77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k for two copies if possi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are taking it with you, keep your application in a folder to keep it from getting messed up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How You Are Judged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attention to deta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ability to follow directio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willingness to lear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mportant it seems to be to you for you to find a j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Keys to Job Applications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09680" y="990360"/>
            <a:ext cx="6934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Inform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sure that you bring along all the information you need to complete all the questions: addresses, phone numbers, references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mplete applications will only give the appearance of laziness and lack of interes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Keys to Job Applications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7920" y="1143000"/>
            <a:ext cx="6324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Hones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t lie on your application. Information can be checked out and if you have lied about anything, your application will end up in the trash ca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Keys to Job Applications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Legibil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k your spelling and 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black or blue p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sure to PRINT your information so it is easier to rea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Your Appearance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2189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ed to make YOUR appearance stand out! Dress appropriately, even for those jobs that might seem less important. Take a shower, put on some good clothes, and show them that you car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The Interview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must be honest, but positive while answering questions in an intervie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’t lie, but try to put information in the best possible ligh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Your Assignment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are now going to fill out a sample job application and answer some sample interview questions from the point of view of one of the characters in “The Necklace.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9:42:20Z</dcterms:created>
  <dc:creator>MIS</dc:creator>
  <dc:description/>
  <dc:language>en-US</dc:language>
  <cp:lastModifiedBy>shmurray</cp:lastModifiedBy>
  <dcterms:modified xsi:type="dcterms:W3CDTF">2011-06-13T20:01:09Z</dcterms:modified>
  <cp:revision>4</cp:revision>
  <dc:subject/>
  <dc:title>Applying for a Job</dc:title>
</cp:coreProperties>
</file>